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30508"/>
        <c:axId val="65832617"/>
      </c:barChart>
      <c:catAx>
        <c:axId val="64830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32617"/>
        <c:crosses val="autoZero"/>
        <c:auto val="1"/>
        <c:lblAlgn val="ctr"/>
        <c:lblOffset val="100"/>
        <c:noMultiLvlLbl val="0"/>
      </c:catAx>
      <c:valAx>
        <c:axId val="658326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30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0A4-C8AB-41DF-8564-E3F831F1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EFF8-800D-4FD1-9DBB-44E11860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242-FE99-46E6-9FF4-5345C3FE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309-92EE-47BF-80D7-D794500E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98ED-A437-4BFB-9327-06914D5E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03F-DFAA-415B-92D3-6A10011B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D6D-6BF0-4512-8BBC-00951291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531-C6E3-4B8B-9FC8-7C64703B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67FC-233C-420D-A213-34680077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479-0859-4E49-B330-0A8AE412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C7D-A1B9-4A36-88B8-72C713FF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AEC-37C8-4321-B3DF-2B5383FC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C9973-9C5B-4BF3-B864-4B3097DACE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