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628051"/>
        <c:axId val="62580062"/>
      </c:barChart>
      <c:catAx>
        <c:axId val="486280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580062"/>
        <c:crosses val="autoZero"/>
        <c:auto val="1"/>
        <c:lblAlgn val="ctr"/>
        <c:lblOffset val="100"/>
        <c:noMultiLvlLbl val="0"/>
      </c:catAx>
      <c:valAx>
        <c:axId val="625800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6280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A3B0-E6AD-4E68-8137-C514C01F6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A7B5-CBF9-4DD0-AC89-4B04ECA2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810D-F146-48C2-A106-8E66A68D4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4CEC-93C9-4E97-9317-8FCFDEF4F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006E-60AB-461F-8A2C-2AC4DFEC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CABB-923F-49E1-9FB6-D9BE302E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67D0-AA6C-4E04-8581-2C98C131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A345-5C6F-417F-9868-FC5605C9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7641-3AEA-4A89-BA16-33203568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B992-E6D6-446F-B696-AB130982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0636-DC91-4725-B14B-055500A0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91DB-892C-4556-9074-F055EFA6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DAEF2A-20BB-4413-9FC8-5D0F0887FE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