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75893"/>
        <c:axId val="61822860"/>
      </c:barChart>
      <c:catAx>
        <c:axId val="71075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22860"/>
        <c:crosses val="autoZero"/>
        <c:auto val="1"/>
        <c:lblAlgn val="ctr"/>
        <c:lblOffset val="100"/>
        <c:noMultiLvlLbl val="0"/>
      </c:catAx>
      <c:valAx>
        <c:axId val="61822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75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F36-7CD7-4FA7-A597-89ED485F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C6F-6A20-4EB6-9D8A-7217E8A3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904D-A631-4F0E-9AA6-B0212A50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6CC-68F1-45A2-9300-57D609DA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47D-161C-4EDE-8C07-AA206808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269-DE2E-4604-8302-6C95D455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F4F-3995-49B5-815D-51B75ED2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456D-281C-430E-9F4A-B49318B1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3F0-7648-416A-9917-BA98A6E9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67E-806B-4DAF-95E2-3B46E3E0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3B4-B8E4-4983-9B9C-35C3AD52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D8E-8B31-4C9A-A43E-717A2F77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C593D-CC83-46C9-AB95-BA3CCB7D49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