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0273"/>
        <c:axId val="39330433"/>
      </c:barChart>
      <c:catAx>
        <c:axId val="7010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30433"/>
        <c:crosses val="autoZero"/>
        <c:auto val="1"/>
        <c:lblAlgn val="ctr"/>
        <c:lblOffset val="100"/>
        <c:noMultiLvlLbl val="0"/>
      </c:catAx>
      <c:valAx>
        <c:axId val="39330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0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497-FC42-4E9C-8797-99D484EE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2D2-74E6-438D-878D-4FF04061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DF3-5DEA-4852-8D7A-4833A536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D88-6913-4279-BF42-36B0FF6D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046-DEEA-43AE-BA26-6B55DD1F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D39-465E-46D9-9DCC-DDC8DF5C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E92A-13C7-405C-85BE-56AF9CEA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C5F-EBF4-4EE1-A925-9CA95A1F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6A6-6B0F-4A7B-BAAF-B82C1620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10A-2DA0-472A-9B00-922B8347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008-E161-411D-B985-A8C92648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F25-4A32-427C-B130-590AE66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D092A-420A-46CE-BEEE-540FE8F48D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