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68695"/>
        <c:axId val="50518901"/>
      </c:barChart>
      <c:catAx>
        <c:axId val="38068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18901"/>
        <c:crosses val="autoZero"/>
        <c:auto val="1"/>
        <c:lblAlgn val="ctr"/>
        <c:lblOffset val="100"/>
        <c:noMultiLvlLbl val="0"/>
      </c:catAx>
      <c:valAx>
        <c:axId val="50518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68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77B-7C9F-4B8D-A42B-8F2F14D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61E-27A0-4D91-B024-28BD984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FC5-6638-4AF5-B7D5-25E72F0F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FBA-EB12-496D-A3F3-43B29104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AAB-CF6B-4997-AA99-7570EAED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407-B89B-4ACE-A6E1-CACA1D1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705-82EC-4539-8A06-4F104AF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64C-146A-4EC0-91AF-C531701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738-6FFC-444E-B6D2-B8CAB67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82C-2B90-4B24-B912-9358895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B37-169A-48C8-A07B-1336C10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D81-B611-4B8D-AD30-86AB850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96A9F-B4E2-442C-927F-BD178DAEB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