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53524"/>
        <c:axId val="22573944"/>
      </c:barChart>
      <c:catAx>
        <c:axId val="83453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73944"/>
        <c:crosses val="autoZero"/>
        <c:auto val="1"/>
        <c:lblAlgn val="ctr"/>
        <c:lblOffset val="100"/>
        <c:noMultiLvlLbl val="0"/>
      </c:catAx>
      <c:valAx>
        <c:axId val="22573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53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C04-B23C-4C96-931F-CDAC7D11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B74-1DC9-48F3-9700-5A1FDAD2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E58-C7F7-47B9-B862-71B71BF7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5E9-3878-4A17-ABE5-04E0DE45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EFA-EB05-411D-94D9-48FDA043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DB3-71CF-454E-8719-06CC062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3F6-A056-41F5-A104-DA38D0A5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23D-7441-439D-8858-058ED186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DED-49A7-4EC3-9DC1-B0F4AC71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503-6776-493D-93B4-1BA651CD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C09-4440-406C-B8FD-F41817DB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AC8-DD86-4855-A58C-46A4FE2D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683A8-EC86-4EFA-8120-C2C89D9DE5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