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28692"/>
        <c:axId val="59036910"/>
      </c:barChart>
      <c:catAx>
        <c:axId val="21228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36910"/>
        <c:crosses val="autoZero"/>
        <c:auto val="1"/>
        <c:lblAlgn val="ctr"/>
        <c:lblOffset val="100"/>
        <c:noMultiLvlLbl val="0"/>
      </c:catAx>
      <c:valAx>
        <c:axId val="59036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28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05D-764B-4011-93AD-53570F2D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6B8-FDB3-4844-B057-C6050A4A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939-5771-4CC9-80E0-ADAA961A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9A4-24FF-4A5B-9007-AE07F650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394-F3F7-42D9-9207-41FFF08B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5AD-FCAC-4BA4-8D18-D0D2D6EE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D6C-ED23-4568-B305-6F35C80C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F77-6172-4E1C-A12B-4526EE56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C9D-218B-482E-A859-8F5B82BC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805-BD21-4B65-BF29-D50C91E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5A7-68FD-46A1-A087-971364F9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1C0-D77A-43F0-8735-7B60C2A5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9FBE4-95D2-46D5-AA94-6AA2C0F8E6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