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0304"/>
        <c:axId val="91184214"/>
      </c:barChart>
      <c:catAx>
        <c:axId val="7610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4214"/>
        <c:crosses val="autoZero"/>
        <c:auto val="1"/>
        <c:lblAlgn val="ctr"/>
        <c:lblOffset val="100"/>
        <c:noMultiLvlLbl val="0"/>
      </c:catAx>
      <c:valAx>
        <c:axId val="91184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0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199-DC37-4C8E-820B-FF8FADA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23D-924A-4FD0-A305-7C42DAAE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D47-D2BF-4B75-A91D-0D964DA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D46-80BC-45B2-9B44-F4DFF191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003-874E-4281-92F6-5889404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667-A84D-4FCB-9F4F-CEF0F86D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3E2-B9C5-4A6B-90AD-6B0F7F94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E24-0EBB-4D2E-8C5E-0D24086F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F58-202D-4170-9B21-22DDF4B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84E-9016-463C-A153-A76B9F9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B03-8284-4572-8FBF-BC101D5F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C14-6651-4259-B9AA-8FFE56F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24FDB-E28D-4BFC-95BF-F760B27240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