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07877"/>
        <c:axId val="19862587"/>
      </c:barChart>
      <c:catAx>
        <c:axId val="54407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62587"/>
        <c:crosses val="autoZero"/>
        <c:auto val="1"/>
        <c:lblAlgn val="ctr"/>
        <c:lblOffset val="100"/>
        <c:noMultiLvlLbl val="0"/>
      </c:catAx>
      <c:valAx>
        <c:axId val="19862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07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32F-6A3A-48AC-9C54-D6413088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1A1-8D96-4CF9-8705-8EFE9EA8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873-2D09-45ED-BD02-E5B7F832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140-A11C-41DD-9220-C14EEA32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EC0-A93B-4421-B67D-6631ADFB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5E6-B584-4743-899C-65E256AC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AA5-E339-4607-9B77-71C1B422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46A-7A95-4921-8600-22F26275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9F5-58A6-4B83-AAFF-48E74996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719-04D4-462A-BA13-244ED90C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793-996C-4BD7-B35F-AEED0229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070-3466-48DB-8D47-7A32B10F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62842-523B-4D1F-AED1-490D2E6F22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