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6903"/>
        <c:axId val="59080446"/>
      </c:barChart>
      <c:catAx>
        <c:axId val="8836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80446"/>
        <c:crosses val="autoZero"/>
        <c:auto val="1"/>
        <c:lblAlgn val="ctr"/>
        <c:lblOffset val="100"/>
        <c:noMultiLvlLbl val="0"/>
      </c:catAx>
      <c:valAx>
        <c:axId val="59080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6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A649-8018-47D5-BC2E-D2D99C55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51CE-9881-45BD-9D6B-8AE2A2EF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6429-D611-4DC4-AC37-7A629711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7748-F5E3-4C19-87F0-CCF3A97B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328-07F9-4146-81AB-35C11B43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9822-F59A-4930-B9EF-12F48C1C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EB33-7E20-4AA4-ABB9-E834B5B1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EA1-3BC7-418A-B7E3-DF20B07C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8D34-23CF-4717-B608-355F5625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00E-6920-48E4-A851-CCA2B030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C7C-C7DB-405A-8EBE-7E7E3182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8B0-260B-4336-B7D9-480FE819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7EF2B-77F4-463B-A536-0AE5C077E6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