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5785"/>
        <c:axId val="13331460"/>
      </c:barChart>
      <c:catAx>
        <c:axId val="93915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1460"/>
        <c:crosses val="autoZero"/>
        <c:auto val="1"/>
        <c:lblAlgn val="ctr"/>
        <c:lblOffset val="100"/>
        <c:noMultiLvlLbl val="0"/>
      </c:catAx>
      <c:valAx>
        <c:axId val="13331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5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667-D8F7-4A1D-8DC4-45D1404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13A-A04C-4C84-B425-D621B28C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37C-7643-4341-A565-297D116E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489-7F92-4758-95E1-7AE9EA50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AD0-EDA2-4F61-9044-B0BD591B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041-6E93-4F4A-AFF6-1A3903B8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47F-D565-46B7-9047-2D72EE77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3E4-946A-44BD-AC41-029484B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E17-5C93-4474-8956-E1C944A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D52-D92E-497F-A04E-6CDCDF04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04E-5AD4-4982-AF07-14A8AC7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60D-E115-4E84-A9DF-A22A49C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D053D-8CA8-459D-8480-09FB97A677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