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53297"/>
        <c:axId val="46624175"/>
      </c:barChart>
      <c:catAx>
        <c:axId val="37153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24175"/>
        <c:crosses val="autoZero"/>
        <c:auto val="1"/>
        <c:lblAlgn val="ctr"/>
        <c:lblOffset val="100"/>
        <c:noMultiLvlLbl val="0"/>
      </c:catAx>
      <c:valAx>
        <c:axId val="46624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53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025-9B89-499C-A0CC-59462EE6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80D-626B-43ED-A619-0A387648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F4A-6446-425A-946E-93B8FFBE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60C-7205-4451-8981-63296A5A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329-67E9-4FAA-815F-4344ED8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79A-DA9D-4312-A64F-DC98649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4D9-E375-45BD-868D-B260B140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5D3-C152-48DB-9101-229B75E5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EA1-9A43-40AE-AF59-9EB5C1C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632-7653-4B3A-A2C3-32A2731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94A-E8B1-4D07-A94B-85721434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7BA-F62A-42E5-808F-112CB00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1426-3BBF-47A9-9794-7111B229D8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