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98105"/>
        <c:axId val="84875636"/>
      </c:barChart>
      <c:catAx>
        <c:axId val="29598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75636"/>
        <c:crosses val="autoZero"/>
        <c:auto val="1"/>
        <c:lblAlgn val="ctr"/>
        <c:lblOffset val="100"/>
        <c:noMultiLvlLbl val="0"/>
      </c:catAx>
      <c:valAx>
        <c:axId val="84875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98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CF4-181D-4B9F-A0B3-69D62B70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242-86CB-4FAE-A4AB-61D6D5EF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6E6-B1B8-498D-8E2E-101FB681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413-2AFA-4072-BDA3-C3FFC265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784-6D37-407A-9C70-7CB7537F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A98-5D8A-4B99-A0E8-EE9D70B9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646-E889-40F3-A139-6DAC016C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716-BB82-40CA-B98E-B3671292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CA5-B8E0-4544-8B3E-83850B8A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D4B-0EDE-4F0E-89EE-F13B0B2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97F-78DA-4C87-990C-A527AA8C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00F-9FCD-43F3-ABD3-F7E67742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5677C-8B2A-498B-8492-980FD68981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