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93799"/>
        <c:axId val="41260430"/>
      </c:barChart>
      <c:catAx>
        <c:axId val="23193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60430"/>
        <c:crosses val="autoZero"/>
        <c:auto val="1"/>
        <c:lblAlgn val="ctr"/>
        <c:lblOffset val="100"/>
        <c:noMultiLvlLbl val="0"/>
      </c:catAx>
      <c:valAx>
        <c:axId val="41260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93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A0D-1FA3-4EDC-ADD9-D8B0EA97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4B4-D731-4BC4-951E-14BCC0BA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854-9D0E-4DC9-A6D0-E8D5943C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D03-4F3F-45AE-93A4-1CDED60D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8C9-1108-4830-8F48-2996B5F6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99E-0561-4BE6-A353-50127EF9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05D-9A76-42F2-B1CE-EE0A25A7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EA6-AC0C-4EE6-BF16-6F40F802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3AA-E4D2-4F3F-A027-62567C00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D6B-AF38-47E9-A4F6-A70E880D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517-2A1F-4CF4-BE96-FA85C6B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429-2DEB-4C14-82A4-FE772C75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8CA6A-EA33-460B-B191-C7AED821FD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