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47349"/>
        <c:axId val="11773891"/>
      </c:barChart>
      <c:catAx>
        <c:axId val="12647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73891"/>
        <c:crosses val="autoZero"/>
        <c:auto val="1"/>
        <c:lblAlgn val="ctr"/>
        <c:lblOffset val="100"/>
        <c:noMultiLvlLbl val="0"/>
      </c:catAx>
      <c:valAx>
        <c:axId val="11773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47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7A6-D830-4556-BD5F-091C98C6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A3D-1F9D-4A68-A0F7-FEB0C39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F8C-EC89-4324-9564-410FCE0F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996-16A7-44A3-A037-05A2638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CE5-B066-4F89-9D3C-E42FD88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434-C25D-4E48-9E60-BC4F3EF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9ED-F011-4F14-A2E1-6818E33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146-D89B-450D-9B7D-DE24D800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F4E-66BE-4398-83DC-36ACD207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159-568B-4A3B-9DC2-9112F30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933-F4DC-4F13-A04F-1201ACA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72C-15AA-49C3-AA4D-9667B67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297DA-0098-40F3-B138-DFB11FDC77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