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64526"/>
        <c:axId val="22952380"/>
      </c:barChart>
      <c:catAx>
        <c:axId val="39364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52380"/>
        <c:crosses val="autoZero"/>
        <c:auto val="1"/>
        <c:lblAlgn val="ctr"/>
        <c:lblOffset val="100"/>
        <c:noMultiLvlLbl val="0"/>
      </c:catAx>
      <c:valAx>
        <c:axId val="22952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64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C81-C4F9-4492-9022-AF90334C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C89-374C-47E0-A27B-1CA0EBB4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A02-9669-49A2-B8C5-5CA982B0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24D-3EFD-477D-B3B7-9FCC3FB2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9BD-FCF0-454E-9A81-B112C155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1A6-79E4-4145-938D-08036995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77D-F20B-497C-972C-2F057A0A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66D-E53A-465D-B1A7-28837CA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136-32E2-40A3-B48F-13D473EB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E77-4661-46C8-932C-7446143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FE0-99FE-402F-AF8C-635EF82A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08D-245A-4658-80CC-0D2584A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BC92B-CD12-4C43-8B35-514ED3FC88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