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0957"/>
        <c:axId val="25970237"/>
      </c:barChart>
      <c:catAx>
        <c:axId val="2370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70237"/>
        <c:crosses val="autoZero"/>
        <c:auto val="1"/>
        <c:lblAlgn val="ctr"/>
        <c:lblOffset val="100"/>
        <c:noMultiLvlLbl val="0"/>
      </c:catAx>
      <c:valAx>
        <c:axId val="25970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0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513-0E6C-4E34-B978-684E6AD9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287-58C9-4C1B-969F-DCF491E5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B96-DEA5-488D-BABF-F3DB0AD5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143-FC18-4EC7-A4BD-31A5B9D6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D23-6F30-45A1-B3C6-4C4D817C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BC5-617A-4822-B6F4-08EDACD6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4E7-CA8C-480F-B1D9-C52A736F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541-83E3-43D1-8C8E-3B26548F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B67-47BE-40E8-A1CF-8974EC09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FD4-F913-475B-BA71-C939ADD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198-48A5-4F13-8B34-2C0F9076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82A-A7C0-49D1-ABA2-575A718F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D55C5-2933-40C7-BD58-258BA2B0D8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