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14097"/>
        <c:axId val="27257189"/>
      </c:barChart>
      <c:catAx>
        <c:axId val="39014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57189"/>
        <c:crosses val="autoZero"/>
        <c:auto val="1"/>
        <c:lblAlgn val="ctr"/>
        <c:lblOffset val="100"/>
        <c:noMultiLvlLbl val="0"/>
      </c:catAx>
      <c:valAx>
        <c:axId val="27257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14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6BD-4473-4B8A-89BA-7EFD4868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EB6-9FC1-4C89-929C-3BA814A8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B8D-C579-4D8D-9246-AF14433B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E3D-2280-4EBE-B08C-395F514B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75B-9771-4162-BE8B-E7E558FC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224-AC1F-4B69-B1A0-8ED146F2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11C-2701-4853-A63F-3CD33D63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AAB-D9E7-4148-AE18-F47ACC04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910-DE37-4901-A91D-4E0B299D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0A9-BA3D-4FD8-A430-1F7D1A1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9A2-0A5F-409C-93C3-7CA0398C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ADB-4188-43FC-BA50-19784AC2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57C62-8754-4E73-8216-5720E50261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