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34040"/>
        <c:axId val="9118456"/>
      </c:barChart>
      <c:catAx>
        <c:axId val="20734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456"/>
        <c:crosses val="autoZero"/>
        <c:auto val="1"/>
        <c:lblAlgn val="ctr"/>
        <c:lblOffset val="100"/>
        <c:noMultiLvlLbl val="0"/>
      </c:catAx>
      <c:valAx>
        <c:axId val="9118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34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EB4-5941-411E-A88E-43AAD26E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1FC-3082-4D9B-9E12-AF13EECE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5B6-984D-4DCA-9602-B3883440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6F5-7226-4E58-AFFA-ECA176E9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940-2740-4212-A7CB-B92A6667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8B8-5905-4120-B9D5-D7AD489A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6C5-D151-4520-812E-0526B683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CFD-A015-4D8A-97DA-08C89384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897-EBAD-4119-93B5-33E3C71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DE0-C16C-4AEF-ADE3-C5198B35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B2F-DCCB-4B8F-A783-DD07EF21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5D5-ABF1-4832-AD3E-25930480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D8BA5-D7D1-43B0-9CE7-8E070158CF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