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56034"/>
        <c:axId val="99658024"/>
      </c:barChart>
      <c:catAx>
        <c:axId val="26856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58024"/>
        <c:crosses val="autoZero"/>
        <c:auto val="1"/>
        <c:lblAlgn val="ctr"/>
        <c:lblOffset val="100"/>
        <c:noMultiLvlLbl val="0"/>
      </c:catAx>
      <c:valAx>
        <c:axId val="99658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56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59D-E0B2-4239-90F3-97B82A0B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6F7-9EB8-42E1-9D68-BDEBCA6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BD9-17D5-4118-ADF3-AD6278B1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4CE-6B4D-4898-8678-5CBFDBC6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6CE-B776-4C5F-AA50-573BD604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F03-85EE-4E63-95C1-B62268B2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3DC-086C-4079-8DF6-A256C141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619-BCB5-4580-9041-21B2C53C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D7E-C20D-40BE-83E4-F297A33F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8B2-4B4E-4D78-A421-655E033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B81-354C-4481-AA99-6713BB35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FE4-1F8A-431E-87CF-9BAEFA5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1F666-7AD2-4AF9-A321-25A5F9A732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