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02832"/>
        <c:axId val="66599296"/>
      </c:barChart>
      <c:catAx>
        <c:axId val="82102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99296"/>
        <c:crosses val="autoZero"/>
        <c:auto val="1"/>
        <c:lblAlgn val="ctr"/>
        <c:lblOffset val="100"/>
        <c:noMultiLvlLbl val="0"/>
      </c:catAx>
      <c:valAx>
        <c:axId val="66599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02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8E1-7643-46A6-B16D-2EE609CE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12E-656B-4F1D-B230-278AA710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EDF-DF2E-4823-B3E4-E6039794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8BD-7494-417C-968A-8EA2B5D7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E4F-795B-47AF-B956-49209645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BB7-97B1-4840-A9A6-B23A021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966-FD9D-4406-A09E-BD2A396E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508-419F-405E-B225-86131ECF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C45-69A0-4FA5-B6C0-B371B06D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858-EC14-4AAF-A8A1-A2FBCE6A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EFE-5515-4829-9E88-A5530134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EE5-3415-4525-817B-C6F5C023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1FC1E-40FB-4995-AF13-6FD307894E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