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93906"/>
        <c:axId val="99993648"/>
      </c:barChart>
      <c:catAx>
        <c:axId val="33193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93648"/>
        <c:crosses val="autoZero"/>
        <c:auto val="1"/>
        <c:lblAlgn val="ctr"/>
        <c:lblOffset val="100"/>
        <c:noMultiLvlLbl val="0"/>
      </c:catAx>
      <c:valAx>
        <c:axId val="999936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93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F2F-82CE-4704-B12C-3D4AAB00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B1D-F9C6-462E-B711-B81273B0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F37-B1CF-4E7D-97EE-7D86A173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5EF-5388-41D7-997D-AB902EEF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24DF-2623-43A0-AC89-0F8F87DB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208-EC0F-461C-90DA-EAAF7F5C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06E-0DBB-4AF8-988E-D77EE6E2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D13-0FC8-4F7E-9BB1-B23E40D5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009-872F-46BB-82E6-2E1B35E7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50F-FAF0-4E86-9C6C-CC94939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FF3-749A-4BD9-9A57-171E47BA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B49-78B1-4DF5-9BF6-6403565C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F5223-B1C3-496C-8A55-3BCAECFEC8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