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16143"/>
        <c:axId val="42448196"/>
      </c:barChart>
      <c:catAx>
        <c:axId val="585161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48196"/>
        <c:crosses val="autoZero"/>
        <c:auto val="1"/>
        <c:lblAlgn val="ctr"/>
        <c:lblOffset val="100"/>
        <c:noMultiLvlLbl val="0"/>
      </c:catAx>
      <c:valAx>
        <c:axId val="424481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161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E8E5-7B65-433D-976B-16099B57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EACF-ECDB-4B98-B488-6BBF8901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2F60-6F04-494E-A03C-120C4ADE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801-8B42-4744-89DB-F494803E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2BB8-502E-41A0-AC50-39F033DA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73A2-D037-4CCB-98C4-B0430BEF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4A02-713F-4BB0-B315-2F7BD1E4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74AD-19E2-40BF-8BB2-349DCBC6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7F7C-A0DB-46A4-A04C-062426EB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62A-336C-4229-9A31-9780F2FF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170-9480-4513-BAE5-79EB1C48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E65-B9E4-4B5D-99C2-60C98189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DAC5F-3587-4374-95C5-912F72B1C7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