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415948"/>
        <c:axId val="9618276"/>
      </c:barChart>
      <c:catAx>
        <c:axId val="364159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8276"/>
        <c:crosses val="autoZero"/>
        <c:auto val="1"/>
        <c:lblAlgn val="ctr"/>
        <c:lblOffset val="100"/>
        <c:noMultiLvlLbl val="0"/>
      </c:catAx>
      <c:valAx>
        <c:axId val="96182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159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3C5-DF2C-44B4-9DA0-CD16FBFF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ABB6-89E4-481A-9129-17FE1B22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824-3D6E-4459-9B19-9CB1C14F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C5D-FB2F-42D9-9DD5-F6CD927C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1D32-CBAB-43CE-99D3-34FADDEC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A9D-06A7-42B6-AB1D-20D55AB1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3CA8-A27C-419E-A933-63280B95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6698-C8EF-4469-B50B-E5E34C38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1596-A224-4C21-A338-B6573315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1282-AE54-4C26-A258-634109AB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BFDC-1006-4466-9586-6D3DFDCE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A0A0-4EEB-4437-9ED3-4A141521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99E1E-F3BB-49D3-B69D-731C4A00FF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