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50366"/>
        <c:axId val="24196259"/>
      </c:barChart>
      <c:catAx>
        <c:axId val="73650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96259"/>
        <c:crosses val="autoZero"/>
        <c:auto val="1"/>
        <c:lblAlgn val="ctr"/>
        <c:lblOffset val="100"/>
        <c:noMultiLvlLbl val="0"/>
      </c:catAx>
      <c:valAx>
        <c:axId val="24196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50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C0C-F2A8-4536-96C1-4E24FAC5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5AE-DDA9-44A2-98D2-711806CA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D3E-9B18-4200-871A-9870FE9E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DFA-68C6-4D65-8B9C-B2084B10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63A-EBBA-420D-87BD-8EDB72D6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101-E839-4193-B276-5959770F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1B2-AF31-4509-8FEF-78A9485F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AF5-B620-4457-B630-705C05BA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987-B6C6-4658-9594-82B7D5CE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437-1511-488C-82ED-D5CE1FEC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2FA-627D-4230-910F-43FE64F6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B6B-ECC9-475F-9BD8-F5CE30E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811EC-19F8-4448-B952-6BE26F9C0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