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89554"/>
        <c:axId val="98310977"/>
      </c:barChart>
      <c:catAx>
        <c:axId val="85689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10977"/>
        <c:crosses val="autoZero"/>
        <c:auto val="1"/>
        <c:lblAlgn val="ctr"/>
        <c:lblOffset val="100"/>
        <c:noMultiLvlLbl val="0"/>
      </c:catAx>
      <c:valAx>
        <c:axId val="98310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89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C87-0868-47ED-AE10-05A2D439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020-7981-41F9-9210-7D5F114A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95F-BFF9-44E8-8D5A-D3B46387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E8E-B324-44BE-B51D-EB6C1440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772-2A78-46F7-9E3B-18343E86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9B5-FEB0-4125-A5CC-900004FE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1A4-A6B6-4E80-BB21-98C8A1D5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4BB-2487-484D-9B4E-B57542F9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AF9-5EC1-46D5-84E7-620E5E45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F4D-65E1-47F7-B4B1-D8E37FC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BD6-598F-436B-B743-B04528D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706-373A-43D2-B936-635B264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AA360-1BD9-432A-9D49-4907031597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