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903183"/>
        <c:axId val="97358476"/>
      </c:barChart>
      <c:catAx>
        <c:axId val="399031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58476"/>
        <c:crosses val="autoZero"/>
        <c:auto val="1"/>
        <c:lblAlgn val="ctr"/>
        <c:lblOffset val="100"/>
        <c:noMultiLvlLbl val="0"/>
      </c:catAx>
      <c:valAx>
        <c:axId val="973584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031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5A05-EEDE-4A6F-8703-A48A4C45B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3831-1860-4E42-8314-F919F452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BCF6-7D03-40D3-80B4-FE9BEAE7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8F8C-8E16-49D2-8E85-26107846D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36FB-D658-465C-AC6F-6A910B49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73A1-002A-400A-A032-DBFD886E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00DE-63BD-432B-9FB8-541013D7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76E8-7B09-4A3D-AFFE-CF3028D2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44BD-6A6E-4489-8717-32A5F94E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53C4-FA86-4DB8-B69C-A272EBE1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A553-C5D4-448D-925C-8AD4FDAA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E585-9206-429A-B76E-DA904012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D5280-B6BF-4634-8C42-52446390A2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