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35356"/>
        <c:axId val="1550324"/>
      </c:barChart>
      <c:catAx>
        <c:axId val="24735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0324"/>
        <c:crosses val="autoZero"/>
        <c:auto val="1"/>
        <c:lblAlgn val="ctr"/>
        <c:lblOffset val="100"/>
        <c:noMultiLvlLbl val="0"/>
      </c:catAx>
      <c:valAx>
        <c:axId val="1550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35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5C2-4304-4794-9612-F4BCC6B6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8DB-878E-4D7D-AD4C-954E9C20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207-34AF-4808-867A-0FCA597A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FDE-7502-438B-8ADE-65B4E7FF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D53-19F2-4006-BCC5-4C4628C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ECD-5111-4020-8FEF-FD319E28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B5B-7575-4A75-AD89-E76CD42A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383-B156-45D6-B2A4-29650D0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B33-450D-4B00-B89A-170FA561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967-0088-4E49-AC63-C36991F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692-00E8-465B-8F61-D7FB9F4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185-8EC6-4545-A406-E575F81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2E159-361A-4DB2-8373-2530F6283B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