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54489"/>
        <c:axId val="16596042"/>
      </c:barChart>
      <c:catAx>
        <c:axId val="21654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96042"/>
        <c:crosses val="autoZero"/>
        <c:auto val="1"/>
        <c:lblAlgn val="ctr"/>
        <c:lblOffset val="100"/>
        <c:noMultiLvlLbl val="0"/>
      </c:catAx>
      <c:valAx>
        <c:axId val="16596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54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47E-6922-45CE-84F4-78068B60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461-6B1C-4DCA-9B62-5A4730BF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4C6-5C98-4465-AB61-19D8F83D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859-292F-40D4-AEF6-6DEE8E14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E54-B83B-4B2D-9C70-7F63BE76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9F7-BA8D-4CCB-BDD8-C81653CC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BC1-0D56-467F-ABEF-3F33EADD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12D-5E5C-4FAE-9C3B-A2E5079E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12F-20FC-4D47-A6B6-ABC5A35E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386-1C30-44CE-97E7-E3511C9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49A-8EDF-4482-9735-29061CA5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DE7-03AF-46F0-8769-576DA7F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EBEE3-AFE1-4911-B046-0CDAC8991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