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46236"/>
        <c:axId val="79245331"/>
      </c:barChart>
      <c:catAx>
        <c:axId val="30046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5331"/>
        <c:crosses val="autoZero"/>
        <c:auto val="1"/>
        <c:lblAlgn val="ctr"/>
        <c:lblOffset val="100"/>
        <c:noMultiLvlLbl val="0"/>
      </c:catAx>
      <c:valAx>
        <c:axId val="79245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46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6A4-4AA8-4E59-AF6A-EB4C259A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84F-BD61-4F82-8C29-BB5416B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9C2-7348-417F-86E9-69389367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ED6-1A2A-4FFB-A28D-A2F24961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887-C21E-44E5-86D5-8BD0420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5FE-9F09-4D73-841D-62AE1FE1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349-26A0-4091-8654-96F6F42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124-419F-4B11-85F5-B946CBDB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907-DF3A-435F-A227-52ADBDA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E99-41DF-433B-B84D-115F6F3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7B2-738C-49C7-B394-AB085B6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A3D-F4E6-40D0-98E1-5BDABA9C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E1592-1C71-475F-A0BA-9984D3D9A1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