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6157"/>
        <c:axId val="77264967"/>
      </c:barChart>
      <c:catAx>
        <c:axId val="59161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64967"/>
        <c:crosses val="autoZero"/>
        <c:auto val="1"/>
        <c:lblAlgn val="ctr"/>
        <c:lblOffset val="100"/>
        <c:noMultiLvlLbl val="0"/>
      </c:catAx>
      <c:valAx>
        <c:axId val="772649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61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DFD1-639A-4534-8A67-3E53669A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923B-9824-46E6-A71B-E538E061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A69D-2288-4E72-B4B2-515E34CE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795-D3E7-40A1-AEDE-5E2CB182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561A-61DE-4E0C-BB0F-A4D6AFFA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9939-5965-499D-AFC2-E0134BA2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C5B-3D44-4F5B-888A-8009DCDE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606-348B-43D0-88C7-EC7E73E7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A79-3617-4C6F-8C92-7F6DFF9F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E09-522A-4F15-A13D-D13F19EC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A77-2BC4-4A64-9C77-627D8C49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45A-710A-4B4C-B94E-98E7C4DA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29008-5395-4B92-93B5-8F1F58C809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