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0846"/>
        <c:axId val="15019642"/>
      </c:barChart>
      <c:catAx>
        <c:axId val="4320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9642"/>
        <c:crosses val="autoZero"/>
        <c:auto val="1"/>
        <c:lblAlgn val="ctr"/>
        <c:lblOffset val="100"/>
        <c:noMultiLvlLbl val="0"/>
      </c:catAx>
      <c:valAx>
        <c:axId val="15019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A6C-0914-43F9-A61A-5BFDE5F5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4BD-FC93-435F-BB93-40089999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B3B-4C35-4109-9A86-61833F6F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454-4114-4302-B9A5-975FD00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956-F350-4279-B4CF-28DABAD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7AF-93B2-41B8-933F-175A3A8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37F-542A-400E-87A7-F5531691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D10-3F61-4F76-9A26-A1E5D943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38B-22DC-4C4F-8F3A-E958316F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346-3B6B-416C-A169-31F423D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8FB-AB47-41BD-BDBF-6315609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E30-DFA2-4C22-9398-63C17A4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6152C-B81F-4DE4-BCB5-1E2E1F387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