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66942"/>
        <c:axId val="45251210"/>
      </c:barChart>
      <c:catAx>
        <c:axId val="51466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51210"/>
        <c:crosses val="autoZero"/>
        <c:auto val="1"/>
        <c:lblAlgn val="ctr"/>
        <c:lblOffset val="100"/>
        <c:noMultiLvlLbl val="0"/>
      </c:catAx>
      <c:valAx>
        <c:axId val="45251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66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4BB-A8D5-4E93-AC1A-953A2F2E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735-D0D3-4686-9394-6BEC1B9D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69A-F8BE-42A7-98AE-4E5CBA74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71CF-1FD3-44B1-B7EE-7512724E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85AE-626F-48B7-A074-56D2AFBB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415F-3FE8-4A2C-81E9-D99EF1C6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AB5-F800-4852-A2DF-19E0A717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7C53-66F2-4161-B20F-07656C0D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FBB9-2B8A-4A1C-8E84-0A1348C1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6371-5D5E-4344-AA12-E638244B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C3E-F4E3-4F17-82CA-18EE2FD1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9B6-FE02-42DD-AA0D-0D128D43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2B82A-5AAE-4290-826A-9FF6D1B3FA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