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6706522"/>
        <c:axId val="82482892"/>
      </c:barChart>
      <c:catAx>
        <c:axId val="1670652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482892"/>
        <c:crosses val="autoZero"/>
        <c:auto val="1"/>
        <c:lblAlgn val="ctr"/>
        <c:lblOffset val="100"/>
        <c:noMultiLvlLbl val="0"/>
      </c:catAx>
      <c:valAx>
        <c:axId val="8248289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70652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6542-D17B-493C-8B93-ECE3C2E3B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4FEF-C497-46DA-877B-33A55EC21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08BF-BFA8-4107-B0A4-57B60E81A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10D7-4FF9-493D-92A8-D62CCF3F0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9875-AD8A-4226-8456-655D8E8E6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95EC-6D33-4B0F-AEBA-62288B941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F91B-B766-49E6-860F-8C5F1699F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E869-FC3A-4EC0-8DAE-B381996C1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978D-A815-44C5-8F1F-68B6445DE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5849-3003-4FDF-A0FE-1A83C72C5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F8A3-77A8-4BD9-9CA5-A9756E0DB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92FA-4729-4374-9835-18EAC8419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5AF914-3E48-4E89-9B71-DF2937062CD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