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62843"/>
        <c:axId val="84668484"/>
      </c:barChart>
      <c:catAx>
        <c:axId val="85862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68484"/>
        <c:crosses val="autoZero"/>
        <c:auto val="1"/>
        <c:lblAlgn val="ctr"/>
        <c:lblOffset val="100"/>
        <c:noMultiLvlLbl val="0"/>
      </c:catAx>
      <c:valAx>
        <c:axId val="84668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62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20E-9436-4721-9F30-990A3FC0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A1A-BD92-4F20-BDD8-B41AAE80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455-4D47-4E2A-9EE9-D6BF6BE8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09D-DF60-4824-9B0B-6A26C825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62F-6B53-4501-9DF9-2E263C5A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AA8-DA7F-4A46-8EA5-75FA2FDA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A34-75B2-4D2A-A393-CAD21D6F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313-A9EA-4FBF-87BD-8D295177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95D-C882-4E72-96AD-8525DBC2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E3B-7C30-4F11-8D18-1D364D83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385-5E07-4975-9BE8-171FCD5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8A29-EAF2-4252-AF74-CFB8158A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D74BC-22DC-454F-92D9-FE678BFB06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