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8206"/>
        <c:axId val="53737940"/>
      </c:barChart>
      <c:catAx>
        <c:axId val="3638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37940"/>
        <c:crosses val="autoZero"/>
        <c:auto val="1"/>
        <c:lblAlgn val="ctr"/>
        <c:lblOffset val="100"/>
        <c:noMultiLvlLbl val="0"/>
      </c:catAx>
      <c:valAx>
        <c:axId val="537379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8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6D6-7B8F-4A0F-B063-378F5846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887-8A76-489E-AE32-67E22D6D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6DD3-8B3F-4ED7-8ABA-2F79484D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306-D29B-4A74-B45D-24E10731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45F-5A4F-447D-B809-D57B8210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9E4F-7A7C-4F3D-A23C-15B232C7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FC5-85C3-4052-A242-9031F0B5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27B-6974-4FE2-A604-4CFCA7B2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09E4-E9BE-4F3A-AFBB-41108D25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81B9-945A-43E7-B8EF-1188177B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F7D-86BC-4747-B5D4-FEF1374F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EF6-DD40-45FB-91AB-50C6CC35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045AE-7108-40C1-8099-B9E34CA5D3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