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39469"/>
        <c:axId val="63800261"/>
      </c:barChart>
      <c:catAx>
        <c:axId val="35439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00261"/>
        <c:crosses val="autoZero"/>
        <c:auto val="1"/>
        <c:lblAlgn val="ctr"/>
        <c:lblOffset val="100"/>
        <c:noMultiLvlLbl val="0"/>
      </c:catAx>
      <c:valAx>
        <c:axId val="63800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39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F11-3D08-4706-ACA3-3776FDA0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4F7-3FE4-4D18-AE8E-B6DF59D5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5BA-3ED0-4029-AC14-FD2764E8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118-E50A-4862-87ED-2D5D6CF5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50A-EAC8-49C7-8AC1-331C86F5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C1A-D518-4667-A56A-D351096D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F72-A242-4940-BBB4-C344F464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591-87FC-4F79-8723-3C22EC70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831-F4A6-4829-88B4-60BE6C64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2CF-18EF-4A59-93FD-C6A1F87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646-43EE-4BE2-90B0-36B53671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A066-B442-4811-A3C6-E743DCA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83A54-2579-489F-9DB2-7826D5D64D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