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872101"/>
        <c:axId val="67390478"/>
      </c:barChart>
      <c:catAx>
        <c:axId val="468721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90478"/>
        <c:crosses val="autoZero"/>
        <c:auto val="1"/>
        <c:lblAlgn val="ctr"/>
        <c:lblOffset val="100"/>
        <c:noMultiLvlLbl val="0"/>
      </c:catAx>
      <c:valAx>
        <c:axId val="673904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721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7754-D6F1-4CF5-AC80-20DE00256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47AD-EC16-459C-AA8A-CA610645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049A-644C-4587-92A3-64E8344A9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EF31-566F-4A81-9B06-3754E64E0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8207-515C-47DE-93F4-1CD844B6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D8EF-438D-426E-97AF-E04A6A22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4328-A6FC-447C-B735-6F4CC250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A37E-C4D3-4387-82CE-76F9FB95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C092-813E-4F0F-950C-218D582D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5C36-3E3F-41F5-9266-22311D0D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7CF1-F612-4CB2-914A-D35A0B0F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25F9-A824-4C81-BEEC-14802051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164C23-5341-4090-99C0-B8F6A0DBF6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