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43051"/>
        <c:axId val="9523153"/>
      </c:barChart>
      <c:catAx>
        <c:axId val="56343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3153"/>
        <c:crosses val="autoZero"/>
        <c:auto val="1"/>
        <c:lblAlgn val="ctr"/>
        <c:lblOffset val="100"/>
        <c:noMultiLvlLbl val="0"/>
      </c:catAx>
      <c:valAx>
        <c:axId val="9523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43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DFF-5E1E-491F-94CC-577DA9D6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01A-03EC-4930-99AA-10C06AB0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186-F070-4926-B235-E8A5BAA3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48BC-40F5-4693-8C2E-3B72D9C8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0A5-FD16-4370-B389-1A5FCF8D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7F0-8BF0-48E3-8B03-A5FC390A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791-12A8-41AF-B892-3D471937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ACD-1132-4916-BDFE-99404742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AF7-D3FE-4ED7-9C6D-4E3BC52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423-9476-4595-9B40-81102883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1851-5030-45D5-8BBD-F783360F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65E-47AF-41A3-A99D-4B9A6827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6F2DA-3971-459A-BE22-EEC1FA675A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