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798195"/>
        <c:axId val="73011756"/>
      </c:barChart>
      <c:catAx>
        <c:axId val="577981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011756"/>
        <c:crosses val="autoZero"/>
        <c:auto val="1"/>
        <c:lblAlgn val="ctr"/>
        <c:lblOffset val="100"/>
        <c:noMultiLvlLbl val="0"/>
      </c:catAx>
      <c:valAx>
        <c:axId val="73011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7981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87BB-8324-4A6A-884F-9FE67D38B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FEBA-374B-4188-9CE5-BE8635A8F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D7E5-EF9E-4A26-BFC3-68D803A06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6838-3BA4-4BAE-80D2-30079B9B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B561-8658-4AC6-8101-585811EA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69D5-C18C-406F-A76C-F4B79A23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61D8-49C0-4D1B-8F19-ADAFF720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999F-BF88-4572-BCE4-727BB3183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821-C8FA-4BD2-8D2E-DAE575B32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FFF7-EC64-42BA-9991-EB416D1D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8789-BC9F-41A1-A367-E0971B12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8835-CBC7-4C86-93D9-1C763CF8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F7C27-93C7-4BC7-AFBD-9C8D69E6D3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