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58113"/>
        <c:axId val="45051784"/>
      </c:barChart>
      <c:catAx>
        <c:axId val="35058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51784"/>
        <c:crosses val="autoZero"/>
        <c:auto val="1"/>
        <c:lblAlgn val="ctr"/>
        <c:lblOffset val="100"/>
        <c:noMultiLvlLbl val="0"/>
      </c:catAx>
      <c:valAx>
        <c:axId val="45051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58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FAD-3B58-40EE-BEE7-EBBA5FC4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4EF-E3D1-4AC5-8744-EC484C1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ABF-6273-4900-B999-CE2F9F05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39B-4347-4A66-814F-74752F24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79B-3E66-4464-9E6E-8712ED49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C3F-1F00-4BEA-99A7-B9023A2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890-F08B-420B-9981-0F551390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596-FFBA-42F2-92AE-A1F228E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F97-CA56-4664-B342-BD14275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3DC-CB7B-4AA2-ADFB-717C3B05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9E2-D255-40F1-8233-C0857F0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689-0D74-4CCE-A57C-58049A0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3F719-6AF3-4930-A849-7539A0C60A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