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03777"/>
        <c:axId val="43075685"/>
      </c:barChart>
      <c:catAx>
        <c:axId val="98003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75685"/>
        <c:crosses val="autoZero"/>
        <c:auto val="1"/>
        <c:lblAlgn val="ctr"/>
        <c:lblOffset val="100"/>
        <c:noMultiLvlLbl val="0"/>
      </c:catAx>
      <c:valAx>
        <c:axId val="43075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03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61D-B4C2-4264-9BB5-C45DCC20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8E9-D521-4724-9C4F-B7C32CAA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F81-8AD7-4CF2-AC7B-7624904C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4FE-901E-460F-902F-7635DCCC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016-F06A-43A2-80FA-78FCB0C8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CA1-5481-4656-9E5D-5F7E2CAA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E67-C08D-4A2F-AF28-D16AF38A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A85-7064-4A8A-8BED-4681104C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9F7-2004-4964-8290-37C009D8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482-7AEE-414A-ACD6-F01CEAB7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35D-B6AA-46F3-8AB5-4957B816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4D9-E287-4C21-91B2-AC77738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740AD-BA79-44C0-941B-1913971010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