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35700"/>
        <c:axId val="55245787"/>
      </c:barChart>
      <c:catAx>
        <c:axId val="29935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45787"/>
        <c:crosses val="autoZero"/>
        <c:auto val="1"/>
        <c:lblAlgn val="ctr"/>
        <c:lblOffset val="100"/>
        <c:noMultiLvlLbl val="0"/>
      </c:catAx>
      <c:valAx>
        <c:axId val="55245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35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288-6649-4756-B85A-D7816478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6F4-2424-4820-9069-80773789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A18-E451-4A8B-A799-5AFE3CEA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11C-AF7C-4D53-95C7-48F6AAEB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AA5-0DC1-438D-97AD-E0422BBE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FDA-8F48-40B5-B6F6-CE83E075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D59-51AF-412A-B14F-ECDB5600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967A-9D84-4D4D-993F-3056B596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7B7-97C9-4AC1-BC7F-C1A63248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38E-9D87-4F0D-8B10-B80BF2AE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8D70-5D02-4C5C-A152-AE7EFF5A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16E-3DBE-4E28-A446-4611B172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56095-5FB1-4851-A5E8-C16F0FD6D8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