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35478"/>
        <c:axId val="54769876"/>
      </c:barChart>
      <c:catAx>
        <c:axId val="18535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69876"/>
        <c:crosses val="autoZero"/>
        <c:auto val="1"/>
        <c:lblAlgn val="ctr"/>
        <c:lblOffset val="100"/>
        <c:noMultiLvlLbl val="0"/>
      </c:catAx>
      <c:valAx>
        <c:axId val="54769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5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4A2-12F9-4BC9-8E65-01ED50FC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C1D-A0F3-4E2B-A298-44D0324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B8D-B2E6-4388-BE99-07DA14D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493-A62A-4C9D-8EDE-75D195F5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B0A-4E44-4C9C-B21C-3066A6C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FEA-B806-4BFC-A1E4-1EC4FA8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0F3-48D0-4DF6-94C0-B83ACD82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E4C-C963-45F8-A9D7-E2E4D55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135-1835-4014-9F49-FB23053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905-3291-4210-BE8C-BDADD09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83F-2A60-4EF5-96D9-BB74F99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772-D460-49EB-91E5-3E6F5E4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D61E2-98FA-484F-9D7F-70E4D2775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