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87975"/>
        <c:axId val="80151353"/>
      </c:barChart>
      <c:catAx>
        <c:axId val="60487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1353"/>
        <c:crosses val="autoZero"/>
        <c:auto val="1"/>
        <c:lblAlgn val="ctr"/>
        <c:lblOffset val="100"/>
        <c:noMultiLvlLbl val="0"/>
      </c:catAx>
      <c:valAx>
        <c:axId val="80151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7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FEF-6CAA-48A9-A816-DA3EB7A0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84A-DF0D-40E1-A18D-ED00945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572-3BDC-484E-9F6F-60A0237A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276-6A8B-444F-8048-B222D585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35-4FDA-4035-8C48-66F70A66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B1B-F8FA-4689-8701-AE33F0F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4D8-C4E8-4FDF-B63C-7A5D9998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4F-84A9-40CD-8E04-DFCCCF2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953-47BB-437E-B5F6-61D7385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818-F42F-45BF-8D0A-FA5ECE5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CA0-DEEB-401D-ACE1-E0BC511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A08-9D37-49BD-98B9-AAC328D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FFE3B-40FC-4C4F-A735-EC576C16E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