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76732"/>
        <c:axId val="93863562"/>
      </c:barChart>
      <c:catAx>
        <c:axId val="29376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63562"/>
        <c:crosses val="autoZero"/>
        <c:auto val="1"/>
        <c:lblAlgn val="ctr"/>
        <c:lblOffset val="100"/>
        <c:noMultiLvlLbl val="0"/>
      </c:catAx>
      <c:valAx>
        <c:axId val="93863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76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8CD-B6EC-45C9-B2A5-4780DBD8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FBB-D437-492E-A0E9-0E35193C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DC1-C20F-41B0-8336-B86147EF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B88-073D-4FCB-90E3-E2266E0A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918-3615-405B-A6DF-1CA41867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5A3-AE03-44CA-BD4B-E04AF22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211-63BC-4B73-A111-B49AE2BC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A57-1551-468D-911A-4448B72E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1FF-0446-44CD-84C6-8860E657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E36-8628-4AA6-AC75-160735C7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1DE-4C38-4C53-954B-E44A6A67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46C-3FF3-42EB-B4E0-8489310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7F3C7-5EF4-43BA-BD41-8D08091840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