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79555"/>
        <c:axId val="51259371"/>
      </c:barChart>
      <c:catAx>
        <c:axId val="16879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9371"/>
        <c:crosses val="autoZero"/>
        <c:auto val="1"/>
        <c:lblAlgn val="ctr"/>
        <c:lblOffset val="100"/>
        <c:noMultiLvlLbl val="0"/>
      </c:catAx>
      <c:valAx>
        <c:axId val="51259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79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050-E218-4576-99F8-E00712D3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BF5-4CA0-4817-8947-152DA243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5B4-F452-4728-AEEB-131B11E8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22D-DBD3-4F79-83B7-BF27A460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698-EC81-4F42-B131-68B85921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0BB-5CA1-4AFD-ACCD-5BD912EB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E90-8B8F-40E5-9E40-97A3EB15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60F-A2F0-479E-A762-14E94176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B0A-CB95-4D60-A284-8D792085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D8E-CE14-41A6-B5A2-417B36A1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17E-AB9D-47C4-828C-86D9FFC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D14-1E6F-4E37-B7E3-C5C7094D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12EA8-6346-4125-AFF7-72C98909C5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