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53149"/>
        <c:axId val="91151477"/>
      </c:barChart>
      <c:catAx>
        <c:axId val="44853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1477"/>
        <c:crosses val="autoZero"/>
        <c:auto val="1"/>
        <c:lblAlgn val="ctr"/>
        <c:lblOffset val="100"/>
        <c:noMultiLvlLbl val="0"/>
      </c:catAx>
      <c:valAx>
        <c:axId val="91151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53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F76-EEF8-4F59-A1E8-DE5F31FD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354-DF5D-44E5-BEF1-DB96DBF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8AE-C986-4F59-AB82-68738EA9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F8D-C806-4C45-BD84-871DB5C3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44C-E529-41A5-84C8-B596B30A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282-7A09-444A-A8B8-18A034B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FCA-4B8E-4A28-A73D-402AD20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AB0-C366-4D50-8679-61E2E11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5A8-4CC5-4E5E-BF35-61026BE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C56-09AD-4C82-BF7C-2499C26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C6F-7757-4DEC-B49E-88452B2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4F0-5981-4721-8C7A-F7B4A7A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ED302-12F2-4F84-BA0A-7266E54552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