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033562"/>
        <c:axId val="96172158"/>
      </c:barChart>
      <c:catAx>
        <c:axId val="50033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72158"/>
        <c:crosses val="autoZero"/>
        <c:auto val="1"/>
        <c:lblAlgn val="ctr"/>
        <c:lblOffset val="100"/>
        <c:noMultiLvlLbl val="0"/>
      </c:catAx>
      <c:valAx>
        <c:axId val="96172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33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3BD-9208-463D-9C5E-24F4F9CF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525-D60F-4792-888F-C80ACB2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6A4-0536-4845-A717-730E0534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3FE-0F90-4972-9DB4-C0654431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857-67CD-41D3-ABE3-38F65E24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6BA-22B2-4BCC-8A38-03F30222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F9F-198B-4879-9A63-089780FA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EF7-3543-4D59-A308-12F81857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636-2761-4E45-8E0A-20D7745F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D8C-1C08-4F0E-AF7F-4D7939F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BAD-A0B0-4B54-8906-7738D64A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6B4-1BC1-4A8F-A29D-4284488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30302-A3B2-4485-A9A4-C490232CAD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