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265958"/>
        <c:axId val="53864602"/>
      </c:barChart>
      <c:catAx>
        <c:axId val="822659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64602"/>
        <c:crosses val="autoZero"/>
        <c:auto val="1"/>
        <c:lblAlgn val="ctr"/>
        <c:lblOffset val="100"/>
        <c:noMultiLvlLbl val="0"/>
      </c:catAx>
      <c:valAx>
        <c:axId val="53864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2659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BF9-807A-414F-8F8F-62C81C264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E6DA-1DCA-4790-9ECF-7CC3C9E5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32A-39DC-4D05-B3CF-AC34F2637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FA8A-F82F-489A-B965-978AA8F75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1D18-ED23-4F51-9BAB-20ADEF6B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D477-467A-4531-B5EA-D4B03168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1306-3D77-42C9-AF07-1F518E98B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55FE-859B-4B19-90A3-471912C7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0FE6-4345-4BFC-B0AD-6322957BC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CB47-A20B-484D-96F2-910C80C9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9D49-7DE6-46C3-9EC6-B99FE65A5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C300-76BA-45F3-B56B-29C9887CE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46C2A-F46C-41DC-85B4-9E8808A6F78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